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D6B-9935-4526-89C5-1D0D5649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6A9-C4A2-4A96-ABB9-43F21D53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E0D-7661-4DFD-8890-4A911119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D19-6022-4E0A-843C-AE42BAEB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4B7E-F3D8-4038-A87A-093F942F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0B61-1E37-4608-A348-8B681C8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4C4E-1BC9-4CF8-8281-87639000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4EFC-FBC8-4296-9B1D-A7962B88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24D4-C55A-4F51-9868-2AEA6F9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3923-CD1E-4818-A847-24258F94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60FC-52C8-4F64-9BA7-49D07CD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B19-2EBE-422A-B05B-304F950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2EEF-7817-481A-A0AF-EADC9B09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B7B2-F8FD-4A15-A969-C5B2C52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87DF-3D80-4A99-96F7-1CE48B0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527B-F9BF-45C9-BEB5-5A1F260B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3111-3E6E-4C81-BAA4-D8517D24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C7C-D8F3-47F9-963B-9E2B97E0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C7F-E8C1-4E32-93FA-51F1E87F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FE6-A84B-40E0-B8A9-D3CC83C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737-8AEF-4EBA-9C8B-2E733E68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7A4-ECF7-49D7-B7FA-B85EA3AB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9FF-5A42-4163-84D5-AA94919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441-881A-4DF1-A7C3-0F2A272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D0BA-08B5-47C7-96E9-8691B2AC707B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0A1A-C0EC-4878-8448-D1587359984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ирование ИК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5456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енисова Е. 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9138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852640"/>
            <a:ext cx="8102520" cy="15130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Правовая форма, учредители и органы управления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55736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униципальное бюджетное учрежд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276640"/>
            <a:ext cx="792000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Учредитель:   Орган местного самоуправл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8640"/>
            <a:ext cx="381636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дминистрация район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645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  СКЦ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Устав СКЦ (основные положения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557360"/>
            <a:ext cx="7920000" cy="100872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ельский консультационный центр создается с целью технической поддержки развития сельского бизнеса, повышения занятости и доходов сельского насел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0760" y="2781360"/>
            <a:ext cx="801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Задачи СКЦ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повышение эффективности и устойчивости функционирования сельскохозяйственных организаций всех форм собственности на основе оперативного внедрения достижений научно-технического прогресса, передового производственного опыта, доведения до хозяйствующих субъектов научной технологической и рыночной информаци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информационно-консультационное обслуживание сельских товаропроизводителей всех форм собствен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создание и развитие современной инфраструктуры для решения задач продовольственного и материально-технического обеспечения сельских товаропроизводителей с использованием единого информационного пространства на базе Интернет – порт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981000"/>
            <a:ext cx="801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Виды деятель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Создание клиентской базы данных о хозяйствах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Организация испытаний и адаптации новшеств в районе (организация 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5. Консультационная деятельность с охватом хозяйст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6. Отработка технологии применения биостимуляторо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7. Создание базы данных по племенному учет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Менеджмент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1. Правовое обеспеч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2. Консультация  по ведению бухгалтерской и экономической отчетности КФХ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КЦ  имеет право осуществлять свою деятельность на коммерческой основ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661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уководитель СКЦ назначается Главой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КЦ создается и ликвидируется на основании Постановления Главы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1168560"/>
            <a:ext cx="4660920" cy="5213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769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9480" y="1360440"/>
            <a:ext cx="80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оздание клиентской базы данных о хозяйствах район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 Организация испытаний и адаптации новшеств в районе (организация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2565360"/>
          <a:ext cx="7704000" cy="609480"/>
        </p:xfrm>
        <a:graphic>
          <a:graphicData uri="http://schemas.openxmlformats.org/drawingml/2006/table">
            <a:tbl>
              <a:tblPr/>
              <a:tblGrid>
                <a:gridCol w="3240000"/>
                <a:gridCol w="1511280"/>
                <a:gridCol w="1657080"/>
                <a:gridCol w="12956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-во опытных участков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(с новыми сорта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900000" y="328464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3716280"/>
          <a:ext cx="7704000" cy="83196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опытно-демонстрационны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участков (с разными удобрения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971640" y="479736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 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5214960"/>
          <a:ext cx="7704000" cy="121932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Ф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0" y="14320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42920" y="1844640"/>
          <a:ext cx="7632720" cy="98604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Муниципальные образования (для ЛПХ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044360" y="314172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42920" y="3645000"/>
          <a:ext cx="7632720" cy="60948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00" y="4941720"/>
          <a:ext cx="7559640" cy="609840"/>
        </p:xfrm>
        <a:graphic>
          <a:graphicData uri="http://schemas.openxmlformats.org/drawingml/2006/table">
            <a:tbl>
              <a:tblPr/>
              <a:tblGrid>
                <a:gridCol w="403236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73800" y="45086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Управление оборотом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16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8000" y="765000"/>
          <a:ext cx="4748400" cy="57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474840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907920"/>
            <a:ext cx="78692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Для дальнейшего развития сельской консультационной деятельности в субъекте РФ предлагается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оздать региональный научно-методический центр (НМЦ) сельского консультирования, который будет обеспечивать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Научно-методическую поддержку инновационной деятельности СКЦ с ведением опытно-демонстрационной деятельности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Адаптировать новшества под условия хозяйствования в агроклиматических условиях субъекта РФ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формировать на базе этого НМЦ координационный совет по технической поддержке сельского развити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беспечивать информационную поддержку сельского развития (работа со СМИ, выпуск журнала и т.п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58244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тношения СКЦ с Региональным НМЦ выстраиваются на договорной основе (возможно СКЦ частично оплачивают услуги НМЦ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16000" y="907920"/>
          <a:ext cx="7488360" cy="55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748836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32000" y="1197000"/>
          <a:ext cx="7200720" cy="50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720072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135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3645000"/>
            <a:ext cx="8102520" cy="25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равовая форма, учредители и органы управле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26828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втономная некоммерческ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700280"/>
            <a:ext cx="792000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чредител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рестьянских фермерских хозяйств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(?) – 20%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716280"/>
            <a:ext cx="7848720" cy="173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бщее собрание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ФХ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5661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 и задачи организаци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: Содействие в устойчивом развитии сельских территор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адачи: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ое и консультационное обеспечение сельских товаропроизводителей и сельского нас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иды и направления деятельност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ая поддержка сельского населения, сельского бизнеса и иных субъектов сельских территорий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Масштабная инновационная деятельност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бучающая поддержка сельского населения и представителей сельского бизнеса, местного самоуправления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ыполнение консультационных проектов в интересах субъектов сельского бизнес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ропогандистско-агитационная деятельнос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рганизационно-координационная деятельность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9138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30480" y="1628640"/>
            <a:ext cx="7913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34:05Z</dcterms:created>
  <dc:creator>123</dc:creator>
  <dc:description/>
  <dc:language>en-US</dc:language>
  <cp:lastModifiedBy>Delen</cp:lastModifiedBy>
  <dcterms:modified xsi:type="dcterms:W3CDTF">2008-12-10T14:59:16Z</dcterms:modified>
  <cp:revision>30</cp:revision>
  <dc:subject/>
  <dc:title/>
</cp:coreProperties>
</file>